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D75-3157-48B2-8D55-4D022586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1EF-E41B-4310-AECF-9FE11E1C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76E-A0A8-42DE-A816-77369760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335-8902-4325-8E79-9BC99328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83C8-44BC-46B6-A722-7FC52BFE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3B9B-F9C5-4F0F-8044-15478398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AB6-1A02-4CED-81B7-6CD9E4A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712A-1D28-4BE9-B500-AFB2DD5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6B3D-1396-48CF-84D1-EE7C0C1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EB8F-8FB1-4855-8F32-953BFC1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E41A-F410-4FF8-ADCA-403B5CC0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AF0-491D-4EA9-B926-EBB8494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C98-2E57-4F1C-854D-885CB404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991-207E-4C34-A923-B84F7D6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F28C-5E1C-438D-A877-70548568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C25-B8EE-4904-91E3-26244DA9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81F2-1F7F-4530-BA07-BDB38D0C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2AD-48F3-411B-822B-737C7E7E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22D-9229-4537-964B-ACC610A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E77-E3C0-447E-A102-199164DB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E2D-4C6F-4ED0-A428-BAF040F5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107-F794-4ACA-AE29-9643DE3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29C-D1A8-493E-A9B1-F4DD92F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7C4-EAE3-49FC-B23D-30BF2E9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482B-5924-4B5A-B95C-2C855FE5E25C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EC6-1B5A-4750-97F2-810EDC3FECB9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iirtotyökalujen käyttö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680" y="1447920"/>
            <a:ext cx="3200400" cy="3886200"/>
            <a:chOff x="3352680" y="1447920"/>
            <a:chExt cx="3200400" cy="3886200"/>
          </a:xfrm>
        </p:grpSpPr>
        <p:sp>
          <p:nvSpPr>
            <p:cNvPr id="102" name=""/>
            <p:cNvSpPr/>
            <p:nvPr/>
          </p:nvSpPr>
          <p:spPr>
            <a:xfrm>
              <a:off x="3429000" y="4114800"/>
              <a:ext cx="1981080" cy="121932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000" y="2666880"/>
              <a:ext cx="1828800" cy="1447920"/>
            </a:xfrm>
            <a:prstGeom prst="smileyFace">
              <a:avLst>
                <a:gd name="adj" fmla="val 9282"/>
              </a:avLst>
            </a:prstGeom>
            <a:solidFill>
              <a:srgbClr val="99ff99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080" y="1447920"/>
              <a:ext cx="1887480" cy="2611440"/>
            </a:xfrm>
            <a:custGeom>
              <a:avLst/>
              <a:gdLst/>
              <a:ahLst/>
              <a:rect l="l" t="t" r="r" b="b"/>
              <a:pathLst>
                <a:path w="1189" h="1645">
                  <a:moveTo>
                    <a:pt x="0" y="79"/>
                  </a:moveTo>
                  <a:cubicBezTo>
                    <a:pt x="89" y="19"/>
                    <a:pt x="105" y="24"/>
                    <a:pt x="222" y="12"/>
                  </a:cubicBezTo>
                  <a:cubicBezTo>
                    <a:pt x="278" y="17"/>
                    <a:pt x="344" y="0"/>
                    <a:pt x="389" y="34"/>
                  </a:cubicBezTo>
                  <a:cubicBezTo>
                    <a:pt x="423" y="59"/>
                    <a:pt x="446" y="96"/>
                    <a:pt x="478" y="123"/>
                  </a:cubicBezTo>
                  <a:cubicBezTo>
                    <a:pt x="535" y="170"/>
                    <a:pt x="597" y="212"/>
                    <a:pt x="656" y="256"/>
                  </a:cubicBezTo>
                  <a:cubicBezTo>
                    <a:pt x="681" y="275"/>
                    <a:pt x="697" y="305"/>
                    <a:pt x="722" y="323"/>
                  </a:cubicBezTo>
                  <a:cubicBezTo>
                    <a:pt x="749" y="342"/>
                    <a:pt x="782" y="350"/>
                    <a:pt x="811" y="367"/>
                  </a:cubicBezTo>
                  <a:cubicBezTo>
                    <a:pt x="827" y="376"/>
                    <a:pt x="841" y="390"/>
                    <a:pt x="856" y="401"/>
                  </a:cubicBezTo>
                  <a:cubicBezTo>
                    <a:pt x="906" y="550"/>
                    <a:pt x="834" y="374"/>
                    <a:pt x="989" y="556"/>
                  </a:cubicBezTo>
                  <a:cubicBezTo>
                    <a:pt x="1004" y="574"/>
                    <a:pt x="1004" y="601"/>
                    <a:pt x="1011" y="623"/>
                  </a:cubicBezTo>
                  <a:cubicBezTo>
                    <a:pt x="1017" y="865"/>
                    <a:pt x="908" y="1074"/>
                    <a:pt x="1122" y="1145"/>
                  </a:cubicBezTo>
                  <a:cubicBezTo>
                    <a:pt x="1131" y="1275"/>
                    <a:pt x="1132" y="1530"/>
                    <a:pt x="1189" y="1645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4038480"/>
              <a:ext cx="533160" cy="457200"/>
            </a:xfrm>
            <a:prstGeom prst="donut">
              <a:avLst>
                <a:gd name="adj" fmla="val 25000"/>
              </a:avLst>
            </a:prstGeom>
            <a:solidFill>
              <a:srgbClr val="99ff99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1600200"/>
              <a:ext cx="1828800" cy="10666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89548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no Ahertaja 18.3.200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2:00:09Z</dcterms:created>
  <dc:creator>atk</dc:creator>
  <dc:description/>
  <dc:language>en-US</dc:language>
  <cp:lastModifiedBy>Kurssi</cp:lastModifiedBy>
  <dcterms:modified xsi:type="dcterms:W3CDTF">2003-02-17T11:19:12Z</dcterms:modified>
  <cp:revision>5</cp:revision>
  <dc:subject/>
  <dc:title>Ei dian otsikkoa</dc:title>
</cp:coreProperties>
</file>